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A6F-D5E7-4D37-8CEC-E59A76C0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BA9B-5908-47DA-974E-A9C9CD9B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0EC03-92A4-4A5F-8AB1-AD886F36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54304-8D69-494B-9583-C7626070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0649D-422F-4502-A337-1C3BB60D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D6D6C-AB8F-43E4-AF55-924AC521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C5F44-92F1-482C-B25B-23B1E15C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4A7A4-0597-47EA-BD2B-3D5F5A4B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0D1D3-A9F1-46D5-B2AC-C6AF9D1E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B9357-322A-4FB2-919C-DDFA38C0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AFC3A-7662-455B-BA04-03655750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37F71-4B74-488E-A1F7-C99B5796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E09-6C8B-47D8-BE68-89B15510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2E26A-8A83-49E0-87C5-F5E4C86F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D0C71-5E8C-45E2-82F7-88C583F0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6C097-9137-48C7-99EB-6848856E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6C6BD-7A48-46FD-A4E6-62E59BDC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EF45C-AAE2-4AC2-A018-C6779B0F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DC4E9-B1FC-4DD4-B412-C224B4A1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80977-F36A-4FCC-860B-41C9B760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F1648-0AD4-4935-A7EE-EDDDD6B0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94048-7C23-4634-8053-D7EF85A0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3C227-6D2F-4AED-ACFA-4626BC2A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F0E-3B71-4251-BCA6-0DB0E9FF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C892E-EB92-4C39-A8A5-B02708E9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649FC-1797-4194-B9D9-CD8923A8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B862E-86D2-48AB-B3BA-7B23B48F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B40EB-3832-4263-B019-ED4C2726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143ED-C6F1-49E3-86A9-05C971C2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0C693-2BE5-4B3B-A09B-8AD58369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4A496-6C9C-4F0B-AF1C-C6E434C8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0F6FB-247E-43CF-BC70-BD224AC7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F21BB-3B52-4C50-BB7C-E78C21F9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C4083-258E-4B4C-8908-3ED23F50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D585-673B-4CFB-B7FE-0E884AD4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E2F26-11EC-4412-AED0-B3126A87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8D533-A901-454E-A0E7-687BB42C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727D8-7297-49C5-A1A5-4E10CDEB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AB744-0AF1-46DC-8176-9F97034B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390D2-2D6D-453B-AD6E-080A1D3F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1966F-B657-4CCD-8A05-7F43A20E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50A95-E989-402C-8E78-8A41EA01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7D36B-E0D8-4925-A8E7-56D7F715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D5165-4F62-45B1-AA12-94B3D5CB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252FD-8BE9-4A1A-B199-67A5FF7C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18C2-31AD-4BCE-A619-1E425EA3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5603E-7E76-4D77-8AA6-6834D226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70035-E187-4A89-89BF-BC251E4D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29155-FBA9-4206-B8A8-9E502F7E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4FC0C-657B-4C17-A023-E45AE5AA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2D7F5-5922-4801-9686-9A2E0BAD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BDEB6F-BE34-4025-99FB-4A51DF0C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256F4-1B7A-4411-98D9-96E5D142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F77F6-945C-4EC9-9264-1B6CAD65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D8D5E-AACE-4344-8A2C-51B4F34C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1EB4A-7E2D-4833-B978-27F60D8E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C6C7-D37E-4C5F-BD69-4A8A82F0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B443D-E9F8-463E-B188-344666FA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B952F-4C80-4136-B84D-6270F061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23FD8-3DEE-46A0-876F-9534C8C3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5C88C-0BE5-474F-953F-10A868E0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4D3F6-1633-4AC7-9069-B075D44D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3CBC5D-203F-4934-AA4A-52843651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AEEDB-EEA1-4BF8-BDBA-45051381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FF6AC-3539-4729-9612-7F64C1A7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50537C-C22D-4BE2-B4BC-01CFBA69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36718-964A-49A6-8208-16E910C8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D417-38D1-4E42-90A0-2F60E925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68C69B-FBE3-4AAE-88CE-E96E2AC7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EE6949-949B-4F53-87CD-95B6D195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7FF41E-1F45-488D-B908-80C013FC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A48293-116D-4A76-A120-201AABDD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A4BB4-F1AF-4F25-9096-397835B2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85B8B-0EF5-4109-ABC0-0C090CA3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2A77A2-8039-48EE-9A45-5E72A2B0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0D30C0-84C9-43A6-A1A5-738D2AED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91F7CA-9485-404E-BA6C-F8EDC6F4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262DC0-2D45-4E02-AF4C-1B125EE5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44BE-FD79-4AA7-83DC-4AC59625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A089CC-796B-4A9B-8F70-53501764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56571-AEBB-4A08-AEA5-9B35C263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770A54-943A-40CA-B5C1-63AA2983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E67DA7-E540-4DC8-98EF-C55CE7A5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F2C706-A81B-46E4-ABD5-C7890169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843570-D4F4-4D12-85C5-C725AFC0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1E24C3-FA51-4585-ADDF-BB85FAAC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F9606F-692E-471B-8EAD-75C2C189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E9772-61F3-48A5-9CD0-2692C9A4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2A007-CB56-4F36-8EA6-46AB7FE7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5556-4C74-42F6-A7AB-F495D17B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1FAC60-67EF-40A2-856E-D5A04F3A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461AC9-7F22-4DEE-8209-3D15F0F1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1E5A9-3170-4224-BD2F-77C91456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C4769C-D20E-4B9E-9FA8-4CF9F520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288604-EC35-4339-8386-02145D0F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8AFB4E-470A-45A3-921E-ACD6249E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74EA58-5FEA-4DEC-96C0-C712DA3A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9CEC84-9DEB-462D-8E35-17DA9D76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AF82F6-0BA0-40A2-B7E2-4A3B8996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1CD9B6-BB2C-42CE-9EC9-4B93BC34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B3F1-2718-465F-B1BD-FC02514C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EAF673-5BE9-485F-A86E-CADEC15F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096E2-BD02-4A60-BC5F-96CCF7EF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B021D-06A9-4E82-9EAC-CF5FCC7F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6A6167-4FB7-4732-8863-068B1491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78737E-CEB9-4619-980D-99992153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6C2F25-16FB-4C72-96A7-2D9E298E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4F4190-2511-47DA-A3B5-2DEAF2DA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44582A-862E-4268-92E0-C2273750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60FF94-50DF-4082-BE13-B29B7E44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9012BF-E746-4D09-AAC1-B6937ECB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E74-869A-4EF8-A563-37EE9107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82E8-EAB6-4C89-893E-B6FC7C8E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8B61D6-DC6A-4E18-9E46-31330E61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D50AE3-C693-4D09-A8BF-40B2D6E0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F62F8A-C9C4-4129-A81B-B62C5EAB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81C239-8020-4692-A153-C37A0EE9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CE6F9D-78AD-4062-AD1F-4DC4ECC1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2763E0-66F8-482F-A943-896DA27B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C13D28-981A-4706-8EC5-40FE778A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53E480-D2F8-4090-B51A-CCD9ED44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C957A1-70F2-4B3E-B5C5-59BA8F4E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02D169-EFD2-4341-960C-151D407B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B0BB-F3C2-4D44-8264-4C396254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3D951C-8578-4901-AC35-036E2D1E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754D8C-EFD4-4C4D-9BB8-30C20E5F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30F53A-84DC-41AE-AD24-6F91EA5A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B81E3E-AAEC-45A4-8AD5-DEA00D97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1B59AA-C1FE-40BB-ADDE-47C9CC69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FAA521-BC9D-418A-B672-101AAE83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A40762-E4CC-4E3B-9961-26195187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1C93F4-9BAB-4352-845E-F88D1B53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504329-374A-49BE-92EB-DE7C0DE6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72CCA3-C7D9-48EA-B6A2-E987B325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0E9B-93AB-4356-952E-C5946F44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2E96DA-6F66-406B-9591-61275214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79ECF0-7D92-4E6E-A8A6-820E1829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46F38A-B2B0-49F5-AA58-3FD16631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C26B0B-339D-48D3-892C-0068ABAB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27DF25-778D-4757-B416-8A9C3BBC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38FE33-FC96-44AE-9996-64BEBFAF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69222E-2083-41EF-B56B-570A9184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2B42C6-64BF-46B0-A409-F36F45F7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C9170C-A8D0-4BF3-BCE0-3BD229AB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DF3369-5388-446C-BB9D-19A7B640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B15E-95BD-491B-8425-18455E8B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8499AD-1E5F-4605-AEEB-48F902CB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96B077-F3A1-4D2C-984A-55A4D2CD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BC70D8-6711-4394-8B0A-6661C2E1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F780BA-C5EE-4020-BB78-C41EEE7E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F6E3AD-13ED-4369-9F7B-AD340617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D95B05-A313-4B98-ABA6-24D8889D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81EACB-5256-46C1-AABF-32C4E081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6E8B00-C331-4482-9D9D-4116605C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900AB2-D388-407C-B4DA-06B152CE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4032B8-A8F8-4D71-9EC0-46FD14EC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BD8A-FE39-470E-97D5-35AB8BB6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29E1A2-2899-4613-9BA7-8DB82690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61EAC2-05C3-4793-8467-F94F470B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2425F2-B324-4711-8018-CE9CF161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CCC717-09F3-4BA9-AA1B-82C0B412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1AB467-64BE-43ED-B364-5EDF2BE6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08F08D-C5C3-4222-9F72-5CB1324D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5A1E81-B0E5-45B5-992B-56EB15B3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DCF1D8-BA80-486B-867A-78B375CB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A8F930-8B05-4408-88E0-CEEF9572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1D1626-CC44-400F-BA06-00725A44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79A45-51AA-4215-98E5-C6407C1A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361E38-4A6A-4AC9-8289-33BB5E38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AAD765-8135-4B4E-9F9E-6C9F73AD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86A107-1EC7-489D-A143-1A6FBAE7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34DF-AF71-4B2F-9F47-4B4D5FEE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F800E-27D2-4817-AE46-F7D25FB4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221CA-9AE6-4537-9588-ECEB3C5B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0C629-0878-41BB-B9BD-C6531B40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407B-A882-4876-A097-D17DDEAB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7CD2A-5CEA-4470-A1E2-BDBDA49B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E2E31-50EF-43C1-B6C9-2C6DFEFB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7CF60-C42E-4BC2-8552-85C4D443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956F-C7DA-437E-9647-048EF796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78201-832D-4710-9104-64C96FF4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3D5B-1955-474E-898E-D7B3666F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F07AC-D1F0-4825-A8D6-1790C4DE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C7746-3340-4EEB-B768-95ACA6C8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4C62E-FA32-4B16-B6A5-9F36DB57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33185-247E-438A-93A2-6E3E8C23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CEB-C02A-45AF-A117-A03EF4E9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56548-3020-47E8-81C8-9F030E8A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CFE32-B53C-49B9-B39B-B75671FB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7003D-0387-43CD-982C-912C61E9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A81C7-92EE-4BAA-BDA9-A851358A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8875E-6343-430B-BF86-2030D981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C4C9D-895E-42EF-B276-8EACCB47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AFCAB-E009-4BEC-8F60-3919D522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6E177-B4FC-45A0-8392-098BDF19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DBA51-F850-4BCF-A076-70603AD9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22D41-C0E0-47B1-9ECD-C0089763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04A-E4BF-473B-85C1-A01C0F8F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74C83-1872-4E5A-93CD-E49CDE6B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F70A0-4781-4806-8FEA-180A8A2C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FD2AB-DE67-47F9-8543-851BCCE7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9D465-B019-4E8D-8DB4-ED486498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3FBCE-F586-426E-868F-7F104E54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320A6-03F3-4007-855A-DF420CA6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B161F-EEEA-459C-BDDC-51603CDD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A72C7-39C4-4AC6-9307-9304D3B4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CF4E6-A547-4E55-BABF-43ACA0C5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D4DF9-F2EC-4AC2-806D-799E4643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FF22-C644-4A9F-9125-AE16991D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21925-5801-4810-BEEA-4C358325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7D1DD-5871-43FA-B918-36B6AE68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FB98B-30AE-4723-BE4B-6179D21B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0FB2E-A933-436C-A1DA-BF35A462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15B45-A964-487C-ABD5-0A7F3C83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F31E4-FAAE-4773-A62C-5E336DFC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6ACAC-E25C-4913-8902-71E5896C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6EBB4-E305-4D1C-A234-8D81F091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0C878-2580-4EEE-9CA6-71121E60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35F59-7209-442E-AB42-0FB7DE3D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8DB8-A7A2-4736-AEF7-66477F94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65797-77D3-432A-847E-BD09DF8F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9CA47-1F67-4A34-89AA-98CEDE0C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1B46E-9740-435A-97C3-8741B50A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14BFD-2EE8-4409-A4F2-3C909958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9E0A8-A383-4427-928E-D9D570B4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219C4-941B-43E0-A68F-672B80E4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1B51F-EA18-4219-9AC0-EBC40893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8FEBC-AB4A-43C9-AA87-16EA4ADA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209B5-9AD2-48C3-A6F7-5180C6C2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D469C-929D-42C2-9A5C-1110D057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169-8018-4210-A9D9-E95D92F6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C40FE-9DF5-46A2-B8A9-43F0C010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B4AA4-3A0C-462E-9FC0-7DDED9E5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423BD-A3FD-411C-8727-A75C735D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1F33A-D6A8-4820-888F-85F1C24C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B295D-8097-4D83-9B94-E9018B4D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13D50-93AA-48C4-B516-9107AB10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5BA04-C19A-4A69-8843-7287F4AC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D793E-519F-46F6-BB37-7C984F39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ADC4B-C379-4FF8-91AB-80261BE7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44B34-C3ED-4E24-A9C1-A0E28BB1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0C1-BE53-43AD-9C8C-18BA4A42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C8650-1726-400F-B1B5-94FFCF30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CA71D-739C-4504-AA99-6E35CF70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528E8-9087-4837-B7F7-1F9EA4F0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4710C-7AFC-48F7-8EA3-15B9E398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36779-BC8A-49CE-AFE3-B96D07F3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545ED-D36A-4CCE-875F-4C55AF8C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32B70-99DF-418C-B2EF-D967FC5C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CFCBB-DD09-4F99-999E-B33D7D7D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4E84D-C0D8-4E36-ADDC-3AC6ED71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6688D-3547-4F34-8540-56EF57CF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6A28-E211-4C11-A087-4566A59994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5216-257F-4480-922E-D566E32977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E620-0B96-48C3-931D-5A9202EBDD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3610-0908-4BC4-9F28-562A15949F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BB14-E0FB-43F6-B554-C437A21395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4946-E63F-43C9-B512-616C092722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CE06-76E6-4B3B-997A-74D00F2396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B8AC-5055-4B15-8A4A-FE9E074F80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5A47-F48D-42ED-AFBC-06B1D6171B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7947-00F8-4729-9AED-889030C5D4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B64D-F4ED-406D-ABC8-84F948EAEB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D07F-3296-49F2-B1B5-502F95D93B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6A1C-8F7E-43D6-BB4C-8689C32A38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DD46-6F14-4CA3-97FD-EA44FD942F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A949-F73C-4ED4-99C0-5072F3D39B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C46C-6D3B-4270-AD11-0745D21F79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AF05-B79B-4FA5-9412-24F382A4F0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AA37-82FD-407A-8FAC-9BBB1C7193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1A01-0B47-46FA-B9D9-376BFA5A47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000E-E5A5-4B55-A229-B4F9893668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FCD2-6385-47BF-9278-3DCD895CEC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C4B7-5F2E-44D2-9509-A7AEE81CF7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5643-4DB3-468D-AE95-6F9DAA2BA6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F0B1-11C0-4142-805D-917698EF93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AA6E-B4F7-40B1-A0E1-E1E11A6326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B5F9-23AA-4DB2-9C83-8FF2EA2A62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112C-D180-4F77-8981-775B65F9D2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2ACA-1047-4270-806F-385FF75A30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ABD5-FEB4-402F-98B6-EA539FD92D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73AD-A904-4150-9E24-395AE395C5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81A5-68D4-4528-900D-9752F63BFE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7DFA-3A9E-4A30-A65A-359431A1FA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D223-056E-426C-8557-A35D713E5B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0123-3C93-4324-A14D-05D2DAB516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5EA5-F7F2-44F0-8872-21AF69F8E2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F333-1947-4430-A854-66840A2B9C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A3DE-92C6-4D46-B508-20465328AE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BA8E-91B1-4BFF-865B-0AA29FA298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24A7-F870-451B-92E4-A4CB36BC3D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A776-FEFE-41A4-8820-DFD884F960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2160" y="2924280"/>
            <a:ext cx="865656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69633" descr=""/>
          <p:cNvPicPr/>
          <p:nvPr/>
        </p:nvPicPr>
        <p:blipFill>
          <a:blip r:embed="rId1"/>
          <a:stretch/>
        </p:blipFill>
        <p:spPr>
          <a:xfrm>
            <a:off x="495360" y="846000"/>
            <a:ext cx="8153280" cy="53913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5292720" y="173052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5364000" y="240660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5219640" y="314172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5292720" y="380376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4284720" y="5084640"/>
            <a:ext cx="107928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6431040" y="5532480"/>
            <a:ext cx="820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68609" descr=""/>
          <p:cNvPicPr/>
          <p:nvPr/>
        </p:nvPicPr>
        <p:blipFill>
          <a:blip r:embed="rId1"/>
          <a:stretch/>
        </p:blipFill>
        <p:spPr>
          <a:xfrm>
            <a:off x="852480" y="1052640"/>
            <a:ext cx="7439040" cy="220032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68610" descr=""/>
          <p:cNvPicPr/>
          <p:nvPr/>
        </p:nvPicPr>
        <p:blipFill>
          <a:blip r:embed="rId2"/>
          <a:stretch/>
        </p:blipFill>
        <p:spPr>
          <a:xfrm>
            <a:off x="576360" y="3529080"/>
            <a:ext cx="7991280" cy="22762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4427640" y="161460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4"/>
          <a:stretch/>
        </p:blipFill>
        <p:spPr>
          <a:xfrm>
            <a:off x="4255920" y="22906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5"/>
          <a:stretch/>
        </p:blipFill>
        <p:spPr>
          <a:xfrm>
            <a:off x="7408800" y="161460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6"/>
          <a:stretch/>
        </p:blipFill>
        <p:spPr>
          <a:xfrm>
            <a:off x="7380360" y="230652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7"/>
          <a:stretch/>
        </p:blipFill>
        <p:spPr>
          <a:xfrm>
            <a:off x="2297160" y="414972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8"/>
          <a:stretch/>
        </p:blipFill>
        <p:spPr>
          <a:xfrm>
            <a:off x="2484360" y="476712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9"/>
          <a:stretch/>
        </p:blipFill>
        <p:spPr>
          <a:xfrm>
            <a:off x="5075280" y="414972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0"/>
          <a:stretch/>
        </p:blipFill>
        <p:spPr>
          <a:xfrm>
            <a:off x="4875120" y="478296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1"/>
          <a:stretch/>
        </p:blipFill>
        <p:spPr>
          <a:xfrm>
            <a:off x="7885080" y="414972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2"/>
          <a:stretch/>
        </p:blipFill>
        <p:spPr>
          <a:xfrm>
            <a:off x="7870680" y="4753080"/>
            <a:ext cx="72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90600" y="870120"/>
            <a:ext cx="8362800" cy="52956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952800" y="4005360"/>
            <a:ext cx="71928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278320" y="4005360"/>
            <a:ext cx="51768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556000" y="4551480"/>
            <a:ext cx="12952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059280" y="505620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117960" y="5530680"/>
            <a:ext cx="36036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680080" y="5546880"/>
            <a:ext cx="504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324000" y="1471680"/>
            <a:ext cx="8496000" cy="3914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2195640" y="4869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6516720" y="48690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352440" y="928800"/>
            <a:ext cx="8439120" cy="5000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2268360" y="30830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6588000" y="30970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3132000" y="4192560"/>
            <a:ext cx="863640" cy="3603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6588000" y="4595760"/>
            <a:ext cx="863640" cy="3603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6602400" y="5416560"/>
            <a:ext cx="863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423720" y="900000"/>
            <a:ext cx="8296560" cy="55533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7093080" y="33577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7093080" y="58770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628560" y="961920"/>
            <a:ext cx="7886880" cy="49341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2700360" y="33577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6443640" y="33577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2700360" y="54309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6516720" y="538812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909720" y="1876320"/>
            <a:ext cx="7324560" cy="31053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6804000" y="290988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6804000" y="361620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6804000" y="4292640"/>
            <a:ext cx="108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4276" descr=""/>
          <p:cNvPicPr/>
          <p:nvPr/>
        </p:nvPicPr>
        <p:blipFill>
          <a:blip r:embed="rId1"/>
          <a:stretch/>
        </p:blipFill>
        <p:spPr>
          <a:xfrm>
            <a:off x="485640" y="1176480"/>
            <a:ext cx="8172720" cy="4505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7236000" y="355752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7308720" y="429264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7236000" y="4998960"/>
            <a:ext cx="93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2231" descr=""/>
          <p:cNvPicPr/>
          <p:nvPr/>
        </p:nvPicPr>
        <p:blipFill>
          <a:blip r:embed="rId1"/>
          <a:stretch/>
        </p:blipFill>
        <p:spPr>
          <a:xfrm>
            <a:off x="747720" y="2381400"/>
            <a:ext cx="7648560" cy="20952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6804000" y="249228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6804000" y="31417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6804000" y="386064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28:1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